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C7F9-4962-41E9-8AA1-9131F25D8088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2)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Basi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translators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data manage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rm DMC applies to an application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s transla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aintain the LPM/5 meta-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us yield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nage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not unmanaged)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gnificantly more difficult to implement than a basic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ach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manag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ata i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que identif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mod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v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1752480"/>
          <a:ext cx="670428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6704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57200" y="5486400"/>
            <a:ext cx="2286000" cy="609480"/>
          </a:xfrm>
          <a:prstGeom prst="wedgeRoundRectCallout">
            <a:avLst>
              <a:gd name="adj1" fmla="val 48333"/>
              <a:gd name="adj2" fmla="val -16406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data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is DMC more Difficult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sting applications may not track the internal evolution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ata mapping between the LPM and the native data structures may be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ers hard to track when mapping not one-to-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be able to read non-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making managed (new histor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MPLE Mapping Tab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16440" y="2286000"/>
            <a:ext cx="4327560" cy="2496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2297160"/>
            <a:ext cx="4297320" cy="247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720" y="2360520"/>
            <a:ext cx="4138560" cy="22813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8840" y="2413080"/>
            <a:ext cx="46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18640" y="2413080"/>
            <a:ext cx="71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44400" y="2413080"/>
            <a:ext cx="53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8120" y="260028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8920" y="278460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45840" y="2784600"/>
            <a:ext cx="132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8920" y="29671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19000" y="2967120"/>
            <a:ext cx="38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/1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6560" y="2967120"/>
            <a:ext cx="131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9200" y="3179880"/>
            <a:ext cx="51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8920" y="33703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45120" y="3370320"/>
            <a:ext cx="1337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8920" y="355428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6560" y="3554280"/>
            <a:ext cx="128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50200" y="3554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920" y="37368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46200" y="3736800"/>
            <a:ext cx="126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50200" y="37368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8120" y="2368440"/>
            <a:ext cx="1440" cy="22734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3240" y="2360520"/>
            <a:ext cx="1440" cy="2289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59236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78280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296712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" y="3156120"/>
            <a:ext cx="413892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" y="33814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356868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374328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" y="392436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6400" y="408132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6400" y="4248000"/>
            <a:ext cx="413892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6400" y="44308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1720" y="261612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693800" y="3519360"/>
            <a:ext cx="1509840" cy="487440"/>
            <a:chOff x="1693800" y="3519360"/>
            <a:chExt cx="1509840" cy="487440"/>
          </a:xfrm>
        </p:grpSpPr>
        <p:sp>
          <p:nvSpPr>
            <p:cNvPr id="133" name=""/>
            <p:cNvSpPr/>
            <p:nvPr/>
          </p:nvSpPr>
          <p:spPr>
            <a:xfrm>
              <a:off x="1708200" y="3533760"/>
              <a:ext cx="1255680" cy="460440"/>
            </a:xfrm>
            <a:custGeom>
              <a:avLst/>
              <a:gdLst/>
              <a:ahLst/>
              <a:rect l="l" t="t" r="r" b="b"/>
              <a:pathLst>
                <a:path w="1582" h="581">
                  <a:moveTo>
                    <a:pt x="469" y="0"/>
                  </a:moveTo>
                  <a:lnTo>
                    <a:pt x="469" y="145"/>
                  </a:lnTo>
                  <a:lnTo>
                    <a:pt x="1582" y="145"/>
                  </a:lnTo>
                  <a:lnTo>
                    <a:pt x="1582" y="435"/>
                  </a:lnTo>
                  <a:lnTo>
                    <a:pt x="469" y="435"/>
                  </a:lnTo>
                  <a:lnTo>
                    <a:pt x="469" y="581"/>
                  </a:lnTo>
                  <a:lnTo>
                    <a:pt x="0" y="29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11400" y="3648240"/>
              <a:ext cx="9216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9640" y="3648240"/>
              <a:ext cx="4752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3800" y="3519360"/>
              <a:ext cx="1276560" cy="487440"/>
            </a:xfrm>
            <a:custGeom>
              <a:avLst/>
              <a:gdLst/>
              <a:ahLst/>
              <a:rect l="l" t="t" r="r" b="b"/>
              <a:pathLst>
                <a:path w="1608" h="613">
                  <a:moveTo>
                    <a:pt x="477" y="161"/>
                  </a:moveTo>
                  <a:lnTo>
                    <a:pt x="477" y="170"/>
                  </a:lnTo>
                  <a:lnTo>
                    <a:pt x="486" y="170"/>
                  </a:lnTo>
                  <a:lnTo>
                    <a:pt x="1599" y="170"/>
                  </a:lnTo>
                  <a:lnTo>
                    <a:pt x="1599" y="161"/>
                  </a:lnTo>
                  <a:lnTo>
                    <a:pt x="1590" y="161"/>
                  </a:lnTo>
                  <a:lnTo>
                    <a:pt x="1590" y="451"/>
                  </a:lnTo>
                  <a:lnTo>
                    <a:pt x="1599" y="451"/>
                  </a:lnTo>
                  <a:lnTo>
                    <a:pt x="1599" y="442"/>
                  </a:lnTo>
                  <a:lnTo>
                    <a:pt x="486" y="442"/>
                  </a:lnTo>
                  <a:lnTo>
                    <a:pt x="477" y="442"/>
                  </a:lnTo>
                  <a:lnTo>
                    <a:pt x="477" y="451"/>
                  </a:lnTo>
                  <a:lnTo>
                    <a:pt x="477" y="597"/>
                  </a:lnTo>
                  <a:lnTo>
                    <a:pt x="486" y="597"/>
                  </a:lnTo>
                  <a:lnTo>
                    <a:pt x="491" y="590"/>
                  </a:lnTo>
                  <a:lnTo>
                    <a:pt x="22" y="299"/>
                  </a:lnTo>
                  <a:lnTo>
                    <a:pt x="17" y="306"/>
                  </a:lnTo>
                  <a:lnTo>
                    <a:pt x="22" y="314"/>
                  </a:lnTo>
                  <a:lnTo>
                    <a:pt x="491" y="24"/>
                  </a:lnTo>
                  <a:lnTo>
                    <a:pt x="486" y="16"/>
                  </a:lnTo>
                  <a:lnTo>
                    <a:pt x="477" y="16"/>
                  </a:lnTo>
                  <a:lnTo>
                    <a:pt x="477" y="161"/>
                  </a:lnTo>
                  <a:close/>
                  <a:moveTo>
                    <a:pt x="495" y="16"/>
                  </a:moveTo>
                  <a:lnTo>
                    <a:pt x="495" y="0"/>
                  </a:lnTo>
                  <a:lnTo>
                    <a:pt x="482" y="9"/>
                  </a:lnTo>
                  <a:lnTo>
                    <a:pt x="13" y="299"/>
                  </a:lnTo>
                  <a:lnTo>
                    <a:pt x="0" y="306"/>
                  </a:lnTo>
                  <a:lnTo>
                    <a:pt x="13" y="314"/>
                  </a:lnTo>
                  <a:lnTo>
                    <a:pt x="482" y="605"/>
                  </a:lnTo>
                  <a:lnTo>
                    <a:pt x="495" y="613"/>
                  </a:lnTo>
                  <a:lnTo>
                    <a:pt x="495" y="597"/>
                  </a:lnTo>
                  <a:lnTo>
                    <a:pt x="495" y="451"/>
                  </a:lnTo>
                  <a:lnTo>
                    <a:pt x="486" y="451"/>
                  </a:lnTo>
                  <a:lnTo>
                    <a:pt x="486" y="460"/>
                  </a:lnTo>
                  <a:lnTo>
                    <a:pt x="1599" y="460"/>
                  </a:lnTo>
                  <a:lnTo>
                    <a:pt x="1608" y="460"/>
                  </a:lnTo>
                  <a:lnTo>
                    <a:pt x="1608" y="451"/>
                  </a:lnTo>
                  <a:lnTo>
                    <a:pt x="1608" y="161"/>
                  </a:lnTo>
                  <a:lnTo>
                    <a:pt x="1608" y="152"/>
                  </a:lnTo>
                  <a:lnTo>
                    <a:pt x="1599" y="152"/>
                  </a:lnTo>
                  <a:lnTo>
                    <a:pt x="486" y="152"/>
                  </a:lnTo>
                  <a:lnTo>
                    <a:pt x="486" y="161"/>
                  </a:lnTo>
                  <a:lnTo>
                    <a:pt x="495" y="161"/>
                  </a:lnTo>
                  <a:lnTo>
                    <a:pt x="49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03480" y="3639960"/>
              <a:ext cx="106560" cy="244800"/>
            </a:xfrm>
            <a:custGeom>
              <a:avLst/>
              <a:gdLst/>
              <a:ahLst/>
              <a:rect l="l" t="t" r="r" b="b"/>
              <a:pathLst>
                <a:path w="135" h="308">
                  <a:moveTo>
                    <a:pt x="117" y="299"/>
                  </a:moveTo>
                  <a:lnTo>
                    <a:pt x="126" y="299"/>
                  </a:lnTo>
                  <a:lnTo>
                    <a:pt x="126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26" y="18"/>
                  </a:lnTo>
                  <a:lnTo>
                    <a:pt x="126" y="9"/>
                  </a:lnTo>
                  <a:lnTo>
                    <a:pt x="117" y="9"/>
                  </a:lnTo>
                  <a:lnTo>
                    <a:pt x="117" y="299"/>
                  </a:lnTo>
                  <a:close/>
                  <a:moveTo>
                    <a:pt x="135" y="9"/>
                  </a:moveTo>
                  <a:lnTo>
                    <a:pt x="135" y="0"/>
                  </a:lnTo>
                  <a:lnTo>
                    <a:pt x="126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126" y="308"/>
                  </a:lnTo>
                  <a:lnTo>
                    <a:pt x="135" y="308"/>
                  </a:lnTo>
                  <a:lnTo>
                    <a:pt x="135" y="299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43160" y="3639960"/>
              <a:ext cx="60480" cy="244800"/>
            </a:xfrm>
            <a:custGeom>
              <a:avLst/>
              <a:gdLst/>
              <a:ahLst/>
              <a:rect l="l" t="t" r="r" b="b"/>
              <a:pathLst>
                <a:path w="76" h="308">
                  <a:moveTo>
                    <a:pt x="58" y="299"/>
                  </a:moveTo>
                  <a:lnTo>
                    <a:pt x="67" y="299"/>
                  </a:lnTo>
                  <a:lnTo>
                    <a:pt x="67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67" y="18"/>
                  </a:lnTo>
                  <a:lnTo>
                    <a:pt x="67" y="9"/>
                  </a:lnTo>
                  <a:lnTo>
                    <a:pt x="58" y="9"/>
                  </a:lnTo>
                  <a:lnTo>
                    <a:pt x="58" y="299"/>
                  </a:lnTo>
                  <a:close/>
                  <a:moveTo>
                    <a:pt x="76" y="9"/>
                  </a:moveTo>
                  <a:lnTo>
                    <a:pt x="76" y="0"/>
                  </a:lnTo>
                  <a:lnTo>
                    <a:pt x="67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67" y="308"/>
                  </a:lnTo>
                  <a:lnTo>
                    <a:pt x="76" y="308"/>
                  </a:lnTo>
                  <a:lnTo>
                    <a:pt x="76" y="299"/>
                  </a:lnTo>
                  <a:lnTo>
                    <a:pt x="7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456000" y="4227480"/>
            <a:ext cx="1023840" cy="260280"/>
          </a:xfrm>
          <a:custGeom>
            <a:avLst/>
            <a:gdLst/>
            <a:ahLst/>
            <a:rect l="l" t="t" r="r" b="b"/>
            <a:pathLst>
              <a:path w="1289" h="326">
                <a:moveTo>
                  <a:pt x="54" y="0"/>
                </a:moveTo>
                <a:lnTo>
                  <a:pt x="43" y="1"/>
                </a:lnTo>
                <a:lnTo>
                  <a:pt x="33" y="4"/>
                </a:lnTo>
                <a:lnTo>
                  <a:pt x="24" y="9"/>
                </a:lnTo>
                <a:lnTo>
                  <a:pt x="16" y="16"/>
                </a:lnTo>
                <a:lnTo>
                  <a:pt x="9" y="24"/>
                </a:lnTo>
                <a:lnTo>
                  <a:pt x="4" y="33"/>
                </a:lnTo>
                <a:lnTo>
                  <a:pt x="1" y="43"/>
                </a:lnTo>
                <a:lnTo>
                  <a:pt x="0" y="54"/>
                </a:lnTo>
                <a:lnTo>
                  <a:pt x="0" y="272"/>
                </a:lnTo>
                <a:lnTo>
                  <a:pt x="1" y="283"/>
                </a:lnTo>
                <a:lnTo>
                  <a:pt x="4" y="293"/>
                </a:lnTo>
                <a:lnTo>
                  <a:pt x="9" y="302"/>
                </a:lnTo>
                <a:lnTo>
                  <a:pt x="16" y="310"/>
                </a:lnTo>
                <a:lnTo>
                  <a:pt x="24" y="317"/>
                </a:lnTo>
                <a:lnTo>
                  <a:pt x="33" y="322"/>
                </a:lnTo>
                <a:lnTo>
                  <a:pt x="43" y="325"/>
                </a:lnTo>
                <a:lnTo>
                  <a:pt x="54" y="326"/>
                </a:lnTo>
                <a:lnTo>
                  <a:pt x="1235" y="326"/>
                </a:lnTo>
                <a:lnTo>
                  <a:pt x="1246" y="325"/>
                </a:lnTo>
                <a:lnTo>
                  <a:pt x="1256" y="322"/>
                </a:lnTo>
                <a:lnTo>
                  <a:pt x="1265" y="317"/>
                </a:lnTo>
                <a:lnTo>
                  <a:pt x="1273" y="310"/>
                </a:lnTo>
                <a:lnTo>
                  <a:pt x="1280" y="302"/>
                </a:lnTo>
                <a:lnTo>
                  <a:pt x="1285" y="293"/>
                </a:lnTo>
                <a:lnTo>
                  <a:pt x="1288" y="283"/>
                </a:lnTo>
                <a:lnTo>
                  <a:pt x="1289" y="272"/>
                </a:lnTo>
                <a:lnTo>
                  <a:pt x="1289" y="54"/>
                </a:lnTo>
                <a:lnTo>
                  <a:pt x="1288" y="43"/>
                </a:lnTo>
                <a:lnTo>
                  <a:pt x="1285" y="33"/>
                </a:lnTo>
                <a:lnTo>
                  <a:pt x="1280" y="24"/>
                </a:lnTo>
                <a:lnTo>
                  <a:pt x="1273" y="16"/>
                </a:lnTo>
                <a:lnTo>
                  <a:pt x="1265" y="9"/>
                </a:lnTo>
                <a:lnTo>
                  <a:pt x="1256" y="4"/>
                </a:lnTo>
                <a:lnTo>
                  <a:pt x="1246" y="1"/>
                </a:lnTo>
                <a:lnTo>
                  <a:pt x="1235" y="0"/>
                </a:lnTo>
                <a:lnTo>
                  <a:pt x="54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71560" y="423864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CI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92400" y="438480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" spc="-1" strike="noStrike">
                <a:solidFill>
                  <a:srgbClr val="1800cc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58280" y="423864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8480" y="3192480"/>
            <a:ext cx="41371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" y="411624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3560" y="49528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4360" y="4952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278460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338148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58452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74976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120" y="0"/>
          <a:ext cx="7945200" cy="656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945200" cy="65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DM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an IDI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impor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ranslator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the incremental import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f the displacement of existing da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pability is built-on 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thers application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be DM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DI translator uses “comparator logic” to identify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I supports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Revisions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spectrum of possible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focus on Basic CIS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raws on CIS/2 Volume 2 (Implementation Gu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vised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838080" y="4038480"/>
            <a:ext cx="2057400" cy="1067040"/>
          </a:xfrm>
          <a:prstGeom prst="wedgeRoundRectCallout">
            <a:avLst>
              <a:gd name="adj1" fmla="val 86726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eedback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5334120"/>
            <a:ext cx="1828800" cy="1066680"/>
          </a:xfrm>
          <a:prstGeom prst="wedgeRoundRectCallout">
            <a:avLst>
              <a:gd name="adj1" fmla="val 107986"/>
              <a:gd name="adj2" fmla="val -28616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0"/>
          <a:ext cx="8555040" cy="68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5504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s 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but an PMR translator mus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 ready to support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ata sharing and management via a 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 (DBM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 access translators (via SD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rect access translators (via Part 21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h translators are some way of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71600" y="1600200"/>
          <a:ext cx="635472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35472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267080"/>
            <a:ext cx="2286000" cy="221004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981080"/>
            <a:ext cx="2286000" cy="221004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2520" y="624852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-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um of possible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ic, DMC, IDI, PMR-Enab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al (and conformance) requirements escalate incremen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with basic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MC the key to data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Bas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M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management conform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data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PMR-Enab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249960" y="2057400"/>
            <a:ext cx="2160360" cy="3658680"/>
            <a:chOff x="6249960" y="2057400"/>
            <a:chExt cx="2160360" cy="3658680"/>
          </a:xfrm>
        </p:grpSpPr>
        <p:sp>
          <p:nvSpPr>
            <p:cNvPr id="68" name=""/>
            <p:cNvSpPr/>
            <p:nvPr/>
          </p:nvSpPr>
          <p:spPr>
            <a:xfrm>
              <a:off x="6705720" y="2057400"/>
              <a:ext cx="1218960" cy="2971800"/>
            </a:xfrm>
            <a:prstGeom prst="downArrow">
              <a:avLst>
                <a:gd name="adj1" fmla="val 50000"/>
                <a:gd name="adj2" fmla="val 6094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9960" y="525636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COMPLEX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on’t Panic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2 reflects two aspects of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to address emerging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implementation (and deploy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simple file exchange right through to integrating data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yered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are additional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1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990720" y="1103400"/>
          <a:ext cx="6145200" cy="57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03400"/>
                    <a:ext cx="6145200" cy="57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5720" y="5029200"/>
            <a:ext cx="233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 v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change 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3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33720" y="1523880"/>
          <a:ext cx="5181480" cy="510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523880"/>
                    <a:ext cx="5181480" cy="51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31840" y="53341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ia DB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, Export or b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CC combin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import (all or part of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xport (all or part of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unit system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displaces existing data on 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ndrew Crowley</cp:lastModifiedBy>
  <cp:lastPrinted>1999-06-19T15:36:00Z</cp:lastPrinted>
  <dcterms:modified xsi:type="dcterms:W3CDTF">2000-04-07T16:17:18Z</dcterms:modified>
  <cp:revision>14</cp:revision>
  <dc:subject/>
  <dc:title>CIS/2  Implementation Workshop</dc:title>
</cp:coreProperties>
</file>